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611280" y="1916280"/>
            <a:ext cx="778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лиганди приближавају дуж оса координатног система 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е је одбојно дејство на електроне које се налазе 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ама на осам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ије дејство лиганада је на електроне централног металног јона које се налазе 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ма између оса координатног систем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истем тежи да постигне минимум енергије,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 централног металног јона оријентишу се тако да укупно одбијање електронских облака централног атома и лиганда буде што м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последица тог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 металног јона се оријентишу тако да су две орбитал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штене на вишем енергетском нивоу, а преостале три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нижем енергетском нив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28760" y="1044720"/>
            <a:ext cx="822960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ши енергетски ниво се означава с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sr-Latn-C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жи енергетски ниво се означава с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sr-Latn-C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а у енергијама наведена два нивоа </a:t>
            </a:r>
            <a:br>
              <a:rPr sz="2800"/>
            </a:b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орбитала централног металног јона обележава се са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Δ</a:t>
            </a:r>
            <a:r>
              <a:rPr b="0" lang="sr-C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при чему о у индексу означава да је реч о октаедарском лигандом пољ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нергетска разлика подељених орбитала зависи од природе лиганада и природе централног металног ј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4"/>
          <p:cNvSpPr/>
          <p:nvPr/>
        </p:nvSpPr>
        <p:spPr>
          <a:xfrm>
            <a:off x="714240" y="1285920"/>
            <a:ext cx="7786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ниво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у тетраедарском лигандном пољ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928800" y="2928960"/>
            <a:ext cx="7215120" cy="36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8"/>
          <p:cNvSpPr/>
          <p:nvPr/>
        </p:nvSpPr>
        <p:spPr>
          <a:xfrm>
            <a:off x="1143000" y="5857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1928880" y="5857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3"/>
          <p:cNvSpPr/>
          <p:nvPr/>
        </p:nvSpPr>
        <p:spPr>
          <a:xfrm>
            <a:off x="2286000" y="5857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4"/>
          <p:cNvSpPr/>
          <p:nvPr/>
        </p:nvSpPr>
        <p:spPr>
          <a:xfrm>
            <a:off x="2643120" y="585792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5"/>
          <p:cNvSpPr/>
          <p:nvPr/>
        </p:nvSpPr>
        <p:spPr>
          <a:xfrm>
            <a:off x="1571760" y="585792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6"/>
          <p:cNvSpPr/>
          <p:nvPr/>
        </p:nvSpPr>
        <p:spPr>
          <a:xfrm>
            <a:off x="4071960" y="47862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7"/>
          <p:cNvSpPr/>
          <p:nvPr/>
        </p:nvSpPr>
        <p:spPr>
          <a:xfrm>
            <a:off x="3643200" y="47862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8"/>
          <p:cNvSpPr/>
          <p:nvPr/>
        </p:nvSpPr>
        <p:spPr>
          <a:xfrm>
            <a:off x="4429080" y="47862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9"/>
          <p:cNvSpPr/>
          <p:nvPr/>
        </p:nvSpPr>
        <p:spPr>
          <a:xfrm>
            <a:off x="4786200" y="47862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0"/>
          <p:cNvSpPr/>
          <p:nvPr/>
        </p:nvSpPr>
        <p:spPr>
          <a:xfrm>
            <a:off x="5143680" y="478620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4"/>
          <p:cNvSpPr/>
          <p:nvPr/>
        </p:nvSpPr>
        <p:spPr>
          <a:xfrm flipV="1">
            <a:off x="2928960" y="4785840"/>
            <a:ext cx="714240" cy="10717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5"/>
          <p:cNvSpPr/>
          <p:nvPr/>
        </p:nvSpPr>
        <p:spPr>
          <a:xfrm>
            <a:off x="6286680" y="542916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6"/>
          <p:cNvSpPr/>
          <p:nvPr/>
        </p:nvSpPr>
        <p:spPr>
          <a:xfrm>
            <a:off x="5929200" y="54291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"/>
          <p:cNvSpPr/>
          <p:nvPr/>
        </p:nvSpPr>
        <p:spPr>
          <a:xfrm>
            <a:off x="6643800" y="4000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6286680" y="4000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29"/>
          <p:cNvSpPr/>
          <p:nvPr/>
        </p:nvSpPr>
        <p:spPr>
          <a:xfrm>
            <a:off x="5857920" y="4000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31"/>
          <p:cNvSpPr/>
          <p:nvPr/>
        </p:nvSpPr>
        <p:spPr>
          <a:xfrm flipV="1">
            <a:off x="5429160" y="4000680"/>
            <a:ext cx="357120" cy="785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3"/>
          <p:cNvSpPr/>
          <p:nvPr/>
        </p:nvSpPr>
        <p:spPr>
          <a:xfrm>
            <a:off x="5428440" y="4786200"/>
            <a:ext cx="500040" cy="642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35"/>
          <p:cNvSpPr/>
          <p:nvPr/>
        </p:nvSpPr>
        <p:spPr>
          <a:xfrm>
            <a:off x="5500800" y="4786200"/>
            <a:ext cx="142848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37"/>
          <p:cNvCxnSpPr/>
          <p:nvPr/>
        </p:nvCxnSpPr>
        <p:spPr>
          <a:xfrm flipH="1">
            <a:off x="6428520" y="4001760"/>
            <a:ext cx="252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39"/>
          <p:cNvCxnSpPr/>
          <p:nvPr/>
        </p:nvCxnSpPr>
        <p:spPr>
          <a:xfrm flipH="1">
            <a:off x="6428520" y="4859280"/>
            <a:ext cx="2520" cy="572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104" name="TextBox 40"/>
          <p:cNvSpPr/>
          <p:nvPr/>
        </p:nvSpPr>
        <p:spPr>
          <a:xfrm>
            <a:off x="7083000" y="385776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1"/>
          <p:cNvSpPr/>
          <p:nvPr/>
        </p:nvSpPr>
        <p:spPr>
          <a:xfrm>
            <a:off x="6931440" y="52862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траедарском лигандном пољ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 се цепају на два ниво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и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коме се налазе три орбитале 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и ниво (е) на коме се налазе две орбитал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разлика нивоа је два пута мања у односу на енергетску разлику код октаедарског лигандног по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3"/>
          <p:cNvSpPr/>
          <p:nvPr/>
        </p:nvSpPr>
        <p:spPr>
          <a:xfrm>
            <a:off x="571680" y="1143000"/>
            <a:ext cx="778644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ниво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у квадратно-планарном лигандном пољ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85840" y="2928960"/>
            <a:ext cx="4214880" cy="25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0"/>
          <p:cNvSpPr/>
          <p:nvPr/>
        </p:nvSpPr>
        <p:spPr>
          <a:xfrm>
            <a:off x="1071720" y="4143240"/>
            <a:ext cx="285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1"/>
          <p:cNvSpPr/>
          <p:nvPr/>
        </p:nvSpPr>
        <p:spPr>
          <a:xfrm>
            <a:off x="64296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2"/>
          <p:cNvSpPr/>
          <p:nvPr/>
        </p:nvSpPr>
        <p:spPr>
          <a:xfrm>
            <a:off x="142884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3"/>
          <p:cNvSpPr/>
          <p:nvPr/>
        </p:nvSpPr>
        <p:spPr>
          <a:xfrm>
            <a:off x="178596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4"/>
          <p:cNvSpPr/>
          <p:nvPr/>
        </p:nvSpPr>
        <p:spPr>
          <a:xfrm>
            <a:off x="2143080" y="4143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6"/>
          <p:cNvSpPr/>
          <p:nvPr/>
        </p:nvSpPr>
        <p:spPr>
          <a:xfrm>
            <a:off x="3286080" y="47862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7"/>
          <p:cNvSpPr/>
          <p:nvPr/>
        </p:nvSpPr>
        <p:spPr>
          <a:xfrm>
            <a:off x="2928960" y="478620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8"/>
          <p:cNvSpPr/>
          <p:nvPr/>
        </p:nvSpPr>
        <p:spPr>
          <a:xfrm>
            <a:off x="2928960" y="442908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9"/>
          <p:cNvSpPr/>
          <p:nvPr/>
        </p:nvSpPr>
        <p:spPr>
          <a:xfrm>
            <a:off x="3000240" y="528624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20"/>
          <p:cNvSpPr/>
          <p:nvPr/>
        </p:nvSpPr>
        <p:spPr>
          <a:xfrm>
            <a:off x="2857680" y="335772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1"/>
          <p:cNvSpPr/>
          <p:nvPr/>
        </p:nvSpPr>
        <p:spPr>
          <a:xfrm flipV="1">
            <a:off x="2428920" y="3357720"/>
            <a:ext cx="357120" cy="785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2"/>
          <p:cNvSpPr/>
          <p:nvPr/>
        </p:nvSpPr>
        <p:spPr>
          <a:xfrm>
            <a:off x="2428200" y="4143240"/>
            <a:ext cx="500040" cy="642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3"/>
          <p:cNvSpPr/>
          <p:nvPr/>
        </p:nvSpPr>
        <p:spPr>
          <a:xfrm>
            <a:off x="2500200" y="4143240"/>
            <a:ext cx="142884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3508560" y="5143680"/>
            <a:ext cx="34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1"/>
          <p:cNvSpPr/>
          <p:nvPr/>
        </p:nvSpPr>
        <p:spPr>
          <a:xfrm>
            <a:off x="3366360" y="4286160"/>
            <a:ext cx="345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2"/>
          <p:cNvSpPr/>
          <p:nvPr/>
        </p:nvSpPr>
        <p:spPr>
          <a:xfrm>
            <a:off x="3587400" y="4643280"/>
            <a:ext cx="577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3"/>
          <p:cNvSpPr/>
          <p:nvPr/>
        </p:nvSpPr>
        <p:spPr>
          <a:xfrm>
            <a:off x="3302640" y="3214800"/>
            <a:ext cx="48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65"/>
          <p:cNvSpPr/>
          <p:nvPr/>
        </p:nvSpPr>
        <p:spPr>
          <a:xfrm>
            <a:off x="2428920" y="4143240"/>
            <a:ext cx="50004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67"/>
          <p:cNvSpPr/>
          <p:nvPr/>
        </p:nvSpPr>
        <p:spPr>
          <a:xfrm>
            <a:off x="2357280" y="4143240"/>
            <a:ext cx="642960" cy="1143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4643280" y="2928960"/>
            <a:ext cx="4214880" cy="25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69"/>
          <p:cNvSpPr/>
          <p:nvPr/>
        </p:nvSpPr>
        <p:spPr>
          <a:xfrm>
            <a:off x="5286240" y="4000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0"/>
          <p:cNvSpPr/>
          <p:nvPr/>
        </p:nvSpPr>
        <p:spPr>
          <a:xfrm>
            <a:off x="4857840" y="4000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1"/>
          <p:cNvSpPr/>
          <p:nvPr/>
        </p:nvSpPr>
        <p:spPr>
          <a:xfrm>
            <a:off x="5643720" y="4000680"/>
            <a:ext cx="285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72"/>
          <p:cNvSpPr/>
          <p:nvPr/>
        </p:nvSpPr>
        <p:spPr>
          <a:xfrm>
            <a:off x="6000840" y="4000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73"/>
          <p:cNvSpPr/>
          <p:nvPr/>
        </p:nvSpPr>
        <p:spPr>
          <a:xfrm>
            <a:off x="6357960" y="4000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4"/>
          <p:cNvSpPr/>
          <p:nvPr/>
        </p:nvSpPr>
        <p:spPr>
          <a:xfrm>
            <a:off x="7572240" y="5143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5"/>
          <p:cNvSpPr/>
          <p:nvPr/>
        </p:nvSpPr>
        <p:spPr>
          <a:xfrm>
            <a:off x="7143840" y="464328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76"/>
          <p:cNvSpPr/>
          <p:nvPr/>
        </p:nvSpPr>
        <p:spPr>
          <a:xfrm>
            <a:off x="7143840" y="42861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77"/>
          <p:cNvSpPr/>
          <p:nvPr/>
        </p:nvSpPr>
        <p:spPr>
          <a:xfrm>
            <a:off x="7215120" y="514368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78"/>
          <p:cNvSpPr/>
          <p:nvPr/>
        </p:nvSpPr>
        <p:spPr>
          <a:xfrm>
            <a:off x="7072200" y="321480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79"/>
          <p:cNvSpPr/>
          <p:nvPr/>
        </p:nvSpPr>
        <p:spPr>
          <a:xfrm flipV="1">
            <a:off x="6643800" y="3214440"/>
            <a:ext cx="357120" cy="785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80"/>
          <p:cNvSpPr/>
          <p:nvPr/>
        </p:nvSpPr>
        <p:spPr>
          <a:xfrm>
            <a:off x="6643080" y="4000680"/>
            <a:ext cx="500040" cy="642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81"/>
          <p:cNvSpPr/>
          <p:nvPr/>
        </p:nvSpPr>
        <p:spPr>
          <a:xfrm>
            <a:off x="6715080" y="4000680"/>
            <a:ext cx="14288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2"/>
          <p:cNvSpPr/>
          <p:nvPr/>
        </p:nvSpPr>
        <p:spPr>
          <a:xfrm>
            <a:off x="7723080" y="4500720"/>
            <a:ext cx="34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3"/>
          <p:cNvSpPr/>
          <p:nvPr/>
        </p:nvSpPr>
        <p:spPr>
          <a:xfrm>
            <a:off x="7581240" y="4143240"/>
            <a:ext cx="345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4"/>
          <p:cNvSpPr/>
          <p:nvPr/>
        </p:nvSpPr>
        <p:spPr>
          <a:xfrm>
            <a:off x="7873560" y="4929120"/>
            <a:ext cx="577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5"/>
          <p:cNvSpPr/>
          <p:nvPr/>
        </p:nvSpPr>
        <p:spPr>
          <a:xfrm>
            <a:off x="7517520" y="3071880"/>
            <a:ext cx="48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86"/>
          <p:cNvSpPr/>
          <p:nvPr/>
        </p:nvSpPr>
        <p:spPr>
          <a:xfrm>
            <a:off x="6643800" y="4000680"/>
            <a:ext cx="500040" cy="28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87"/>
          <p:cNvSpPr/>
          <p:nvPr/>
        </p:nvSpPr>
        <p:spPr>
          <a:xfrm>
            <a:off x="6572160" y="4000680"/>
            <a:ext cx="642960" cy="1143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лиганди приближавају централном атому по координатам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је се налазе у равн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њихови електронски облаци највише дејствују на електроне који се налазе у орбитал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8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0" lang="sr-Latn-CS" sz="28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то је она на највишем енергетском нив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код квадратно-планарних комплекса нема лиганада дуж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е орбитал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28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изложена дејству лиганада и због тога је она на најнижем нив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такође изложена дејству лиганада који се приближавају дуж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а па је наведена орбитала на нешто нижем енергетском нивоу у односу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1" i="1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е на нижем нивоу очекивао би се положај орбитала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 распоред орбитала код квадратно-планарног поља је нарушен тиме што орбита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ј електронски облак протеже и у рав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 се мора узети у обзир и одбојно дејство тог дела електронског облака и лиганада који се приближавају по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ама.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тог одбојног дејства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sr-Latn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sr-CS" sz="2400" spc="-1" strike="noStrike" baseline="8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а није на најнижем енергетском нивоу, већ на нивоу који је нешто виши од нивоа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z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н-Телеров ефе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дступању од идеалних геометријских структура долази и до одступања од расподеле енергетских нивоа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у геометријску структуру граде централни метални јони са једнаком попуњени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м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 одступање од правилне структуре могло би се очекивати код комплекса чији градитељ има електронску конфигураци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7120" y="11430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 једнако попуњене онда је и одбијање електронских облак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а и електронског облака лиганада једнако. У том случају комплекс има правилну октаедарску струк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е неједнако попуњене онда је и одбијање електронских облак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а и електронског облака лиганада неједнако. У том случају комплекс нема правилну октаедарску структуру јер сви лиганди нису изложени одбијању исте јачине па се неће ни приближити централном атому на исто растој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молекулских орби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рам молекулских орбитала комплексних једињења приказује се на сличан начин као и дијаграм хомо- или хетеронуклеарних двоатомних молек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дијаграм се дели на три 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леве стране су атомске орбитале металног 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десне стране орбитале лиг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едини су новонаграђене молекулске орбитале (везивне и антивезивне) награђеног комплекса које настају преклапањем орбитала металног јона и лиган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емијска веза и симетрија молекула комплексних 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се разликују не само по броју и врсти атома, већ и по њиховом распо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 распоред код већине молекула правилан молекули поседују одређене елементе симетр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симетрије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 симет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ар симет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 симетрије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ар симет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ар симетрије или инверзије је тачка тела (молекула) са својством да сваки правац који пролази кроз њега пробада тело у две еквивалентне и од центра једнако удаљене та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садржи центар симетрије или центар инверзије у облику тачке ако ма која права повучена кроз ту тачку пресеца молекул са обе стране тачке на исту врсту атома или атомских група и на истом растојању од те та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001.jpg"/>
          <p:cNvPicPr/>
          <p:nvPr/>
        </p:nvPicPr>
        <p:blipFill>
          <a:blip r:embed="rId1"/>
          <a:stretch/>
        </p:blipFill>
        <p:spPr>
          <a:xfrm>
            <a:off x="500040" y="1714680"/>
            <a:ext cx="829476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 рот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 ротациј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оса око које можемо окретати (ротирати) молекул за угао 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је симетричан у односу на осу ротације С ако при окретању око ње заузме више пут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а) положај који је идентичан полазном положају. Таква оса је оса ротациј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ог ре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остоји више оса ротације код неког молекула онда она оса која има највећ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главна оса ро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002.jpg"/>
          <p:cNvPicPr/>
          <p:nvPr/>
        </p:nvPicPr>
        <p:blipFill>
          <a:blip r:embed="rId1"/>
          <a:stretch/>
        </p:blipFill>
        <p:spPr>
          <a:xfrm>
            <a:off x="428760" y="2000160"/>
            <a:ext cx="807228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 симетр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 симетрије или огледалска раван (раван рефлексије) је замишљена раван која дели молекул на два једнака дела који у односу на ту раван изгледају као предмет и лик у огледа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огледалска операција симетр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се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одају се инде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еда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003.jpg"/>
          <p:cNvPicPr/>
          <p:nvPr/>
        </p:nvPicPr>
        <p:blipFill>
          <a:blip r:embed="rId1"/>
          <a:stretch/>
        </p:blipFill>
        <p:spPr>
          <a:xfrm>
            <a:off x="71280" y="1666800"/>
            <a:ext cx="9001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ционо-рефлексиона оса симет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ционо-рефлексиона оса (несвојствена оса) је оса симетрије која настаје комбинацијом две операције: ротаци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 реда и рефлексије у равни нормалној на ту 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можемо преклопити са собом окретањем (за угао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е прати рефлексија у равни нормалној на осу окретања. Такву операцију симетрије називамо ротациона рефлексија и означавамо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004.jpg"/>
          <p:cNvPicPr/>
          <p:nvPr/>
        </p:nvPicPr>
        <p:blipFill>
          <a:blip r:embed="rId1"/>
          <a:stretch/>
        </p:blipFill>
        <p:spPr>
          <a:xfrm>
            <a:off x="5695920" y="1643040"/>
            <a:ext cx="3448080" cy="3800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571680" y="1357200"/>
            <a:ext cx="492912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изразити производом операције ротације и рефлекс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428760" y="2000160"/>
          <a:ext cx="8358120" cy="2967120"/>
        </p:xfrm>
        <a:graphic>
          <a:graphicData uri="http://schemas.openxmlformats.org/drawingml/2006/table">
            <a:tbl>
              <a:tblPr/>
              <a:tblGrid>
                <a:gridCol w="2860560"/>
                <a:gridCol w="2859120"/>
                <a:gridCol w="263844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менти симетр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је симетр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а операције симетр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ан симетр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ја (огледање) у рав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ар симетрије или центар инвер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рзија (пресликавање) свих атома у односу на цен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 ротације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ог 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дан окретај око осе за угао 2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i="1" lang="sr-Latn-C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ациона-рефлексиона оса</a:t>
                      </a:r>
                      <a:br>
                        <a:rPr sz="1600"/>
                      </a:b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ог 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ација (окретање) за угао 2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аћена рефлексијом у равни која је нормална на осу р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i="1" lang="sr-Latn-C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0040" y="175896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ивно-ковалентна в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узајамним дејством централног металног јона и лиг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 је донор електронског пара а централни метални јон је акцептор тог електронског п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285920" y="4500720"/>
            <a:ext cx="607212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о-акцепторска те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лигандног 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молекулских орб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ounded Rectangle 4" descr=""/>
          <p:cNvPicPr/>
          <p:nvPr/>
        </p:nvPicPr>
        <p:blipFill>
          <a:blip r:embed="rId1"/>
          <a:stretch/>
        </p:blipFill>
        <p:spPr>
          <a:xfrm>
            <a:off x="907920" y="907920"/>
            <a:ext cx="73281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валентне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ња централног металног јона да постигне стабилну електронску конфигур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и атомски број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е комплекса је тежња централног металног јона да постигне ефективни атомски бро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695160" y="1122480"/>
            <a:ext cx="77536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14280"/>
            <a:ext cx="822960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и атомски број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број електрона који одговара електронским конфигурацијама племенитих га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иком грађења комплексних једињења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и атомски број представља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бир електрона које поседује централни метални јон и електрона које он „прима” од лиган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e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кристалног п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под утицајем електронског облака лиг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ниво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у октаедарском лиган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ниво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у тетраедарском лиган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ниво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у квадратно-планарном лигандном по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ашњава настајање комплексних једињења и њихове магнетне особ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480960" y="1195560"/>
            <a:ext cx="82551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3"/>
          <p:cNvSpPr/>
          <p:nvPr/>
        </p:nvSpPr>
        <p:spPr>
          <a:xfrm>
            <a:off x="785880" y="1071720"/>
            <a:ext cx="77868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ање ниво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битала у октаедарском лигандном пољ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85880" y="2786040"/>
            <a:ext cx="7572240" cy="36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8"/>
          <p:cNvSpPr/>
          <p:nvPr/>
        </p:nvSpPr>
        <p:spPr>
          <a:xfrm>
            <a:off x="928800" y="571500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2"/>
          <p:cNvSpPr/>
          <p:nvPr/>
        </p:nvSpPr>
        <p:spPr>
          <a:xfrm>
            <a:off x="1357200" y="5715000"/>
            <a:ext cx="3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3"/>
          <p:cNvSpPr/>
          <p:nvPr/>
        </p:nvSpPr>
        <p:spPr>
          <a:xfrm>
            <a:off x="1785960" y="571500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4"/>
          <p:cNvSpPr/>
          <p:nvPr/>
        </p:nvSpPr>
        <p:spPr>
          <a:xfrm>
            <a:off x="2214720" y="571500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5"/>
          <p:cNvSpPr/>
          <p:nvPr/>
        </p:nvSpPr>
        <p:spPr>
          <a:xfrm>
            <a:off x="2643120" y="571500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6"/>
          <p:cNvSpPr/>
          <p:nvPr/>
        </p:nvSpPr>
        <p:spPr>
          <a:xfrm>
            <a:off x="3429000" y="45007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7"/>
          <p:cNvSpPr/>
          <p:nvPr/>
        </p:nvSpPr>
        <p:spPr>
          <a:xfrm>
            <a:off x="3857760" y="45007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8"/>
          <p:cNvSpPr/>
          <p:nvPr/>
        </p:nvSpPr>
        <p:spPr>
          <a:xfrm>
            <a:off x="4286160" y="45007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9"/>
          <p:cNvSpPr/>
          <p:nvPr/>
        </p:nvSpPr>
        <p:spPr>
          <a:xfrm>
            <a:off x="4714920" y="45007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0"/>
          <p:cNvSpPr/>
          <p:nvPr/>
        </p:nvSpPr>
        <p:spPr>
          <a:xfrm>
            <a:off x="5143680" y="450072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2"/>
          <p:cNvSpPr/>
          <p:nvPr/>
        </p:nvSpPr>
        <p:spPr>
          <a:xfrm flipH="1">
            <a:off x="2999880" y="4500720"/>
            <a:ext cx="428760" cy="121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3"/>
          <p:cNvSpPr/>
          <p:nvPr/>
        </p:nvSpPr>
        <p:spPr>
          <a:xfrm>
            <a:off x="6215040" y="350028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24"/>
          <p:cNvSpPr/>
          <p:nvPr/>
        </p:nvSpPr>
        <p:spPr>
          <a:xfrm>
            <a:off x="6643800" y="350028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6286680" y="50007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26"/>
          <p:cNvSpPr/>
          <p:nvPr/>
        </p:nvSpPr>
        <p:spPr>
          <a:xfrm>
            <a:off x="6786720" y="50007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7"/>
          <p:cNvSpPr/>
          <p:nvPr/>
        </p:nvSpPr>
        <p:spPr>
          <a:xfrm>
            <a:off x="7286760" y="5000760"/>
            <a:ext cx="357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9"/>
          <p:cNvSpPr/>
          <p:nvPr/>
        </p:nvSpPr>
        <p:spPr>
          <a:xfrm>
            <a:off x="5500800" y="4500720"/>
            <a:ext cx="785880" cy="50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31"/>
          <p:cNvSpPr/>
          <p:nvPr/>
        </p:nvSpPr>
        <p:spPr>
          <a:xfrm flipV="1">
            <a:off x="5500800" y="3571920"/>
            <a:ext cx="714240" cy="928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33"/>
          <p:cNvSpPr/>
          <p:nvPr/>
        </p:nvSpPr>
        <p:spPr>
          <a:xfrm>
            <a:off x="5500800" y="4500720"/>
            <a:ext cx="2000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5"/>
          <p:cNvCxnSpPr/>
          <p:nvPr/>
        </p:nvCxnSpPr>
        <p:spPr>
          <a:xfrm flipH="1">
            <a:off x="6500520" y="3502080"/>
            <a:ext cx="2160" cy="1000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" name="Straight Arrow Connector 37"/>
          <p:cNvCxnSpPr/>
          <p:nvPr/>
        </p:nvCxnSpPr>
        <p:spPr>
          <a:xfrm flipH="1">
            <a:off x="6500520" y="4501800"/>
            <a:ext cx="21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2" name="TextBox 38"/>
          <p:cNvSpPr/>
          <p:nvPr/>
        </p:nvSpPr>
        <p:spPr>
          <a:xfrm>
            <a:off x="7150680" y="335772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7727040" y="4786200"/>
            <a:ext cx="37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0"/>
          <p:cNvSpPr/>
          <p:nvPr/>
        </p:nvSpPr>
        <p:spPr>
          <a:xfrm>
            <a:off x="1079280" y="578628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иво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ог ј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1"/>
          <p:cNvSpPr/>
          <p:nvPr/>
        </p:nvSpPr>
        <p:spPr>
          <a:xfrm>
            <a:off x="3508200" y="5715000"/>
            <a:ext cx="161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иво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ферном пољ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2"/>
          <p:cNvSpPr/>
          <p:nvPr/>
        </p:nvSpPr>
        <p:spPr>
          <a:xfrm>
            <a:off x="6141240" y="5786280"/>
            <a:ext cx="18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иво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таедарском пољ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28760" y="9288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ски комплекс настаје приближавањем шест лиганада централном атому из праваца који се поклапају са правцима оса координатног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приближавања лиганада долази до одбијања електронских облака валентних електрона централног металног јона и електронских облака лиган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се лиганди више приближавају централном атому одбијање постаје јач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енутку изједначавања привлачних сила позитивног металног јона са одбојним силама електронских облака централног атома и електронских облака лигана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ганди се заустављ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јањем тачака на којима се лиганди зауставе добијамо геометријску структуру комплекса - у овом случају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распоређени лиганди у простору стварају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ско лигандно пољ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 приликом долази до узајамног дејства електрона металног јона и електрона лиганда па ће електрони метала поседовати нешто вишу енергију у односу на основно ст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8-07-24T10:18:45Z</dcterms:modified>
  <cp:revision>123</cp:revision>
  <dc:subject/>
  <dc:title>Slide 1</dc:title>
</cp:coreProperties>
</file>